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FB3-908D-49EE-B323-FDEC3580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53C-6654-440D-A873-50349A8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425-B721-4279-A77F-EE200184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B81-BB24-4705-92ED-C123F89E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B06E-BAF8-4E8F-A1E6-A6292ADF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CCDD-08F0-4D52-96EA-8BE260AE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788C-33A3-4469-A74B-25582FE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5D9-4B9B-4D8F-86F6-7750532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8930-4306-42CD-9169-098CF465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3FEE-1634-499A-B091-91C8441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BA38-9B71-4035-B59F-3739F76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E2E-7D4F-47CD-A3B6-81AB9E0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2DC1-20EF-4621-A8C1-0DEB9B0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FEB0-8659-4868-BD2E-48026543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71C8-417B-4CD2-8CAD-8E74826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AAD1-1A01-4DC1-AD26-76AFF597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FF3E-76C1-4F9C-8B6C-EBEF2EFB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8B6-48DA-4099-9F91-042B2DB8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5DE-5994-4338-AE44-8A96DB45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936-DD34-41F6-930A-09FDA2A3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0F4-83DE-4FFF-8D52-B32604A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39C-2EEE-4565-87C5-C7F2E59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661-ED19-4F1D-BCB0-B362054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6B1-5604-4404-8513-E65D4B5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659-02F7-49F8-8F2C-D3FBA834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EAF3-2CAC-4834-B57D-F16A4420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sobserver.com/business" TargetMode="External"/><Relationship Id="rId2" Type="http://schemas.openxmlformats.org/officeDocument/2006/relationships/hyperlink" Target="http://www.newsobserver.com/business" TargetMode="External"/><Relationship Id="rId3" Type="http://schemas.openxmlformats.org/officeDocument/2006/relationships/hyperlink" Target="http://www.newsobserver.com/business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tizentimes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Arial"/>
              </a:rPr>
              <a:t>3.02E Website File Management</a:t>
            </a:r>
            <a:br>
              <a:rPr sz="4100"/>
            </a:b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09624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Folder Structure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6934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website should be saved in one folder (the Root Folder)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ubfolders can be used to organize content within the root folder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The Root Folder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is example, the root folder contain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.htm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(index/home pa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Form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2"/>
          <p:cNvGrpSpPr/>
          <p:nvPr/>
        </p:nvGrpSpPr>
        <p:grpSpPr>
          <a:xfrm>
            <a:off x="4419720" y="2133720"/>
            <a:ext cx="3504960" cy="2934720"/>
            <a:chOff x="4419720" y="2133720"/>
            <a:chExt cx="3504960" cy="2934720"/>
          </a:xfrm>
        </p:grpSpPr>
        <p:sp>
          <p:nvSpPr>
            <p:cNvPr id="95" name="Text Box 9"/>
            <p:cNvSpPr/>
            <p:nvPr/>
          </p:nvSpPr>
          <p:spPr>
            <a:xfrm>
              <a:off x="4419720" y="2133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cc00"/>
                  </a:solidFill>
                  <a:latin typeface="Arial"/>
                </a:rPr>
                <a:t>Root Folder Content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6083280" y="4505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bf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7" descr=""/>
            <p:cNvPicPr/>
            <p:nvPr/>
          </p:nvPicPr>
          <p:blipFill>
            <a:blip r:embed="rId1"/>
            <a:srcRect l="21093" t="15627" r="42969" b="66668"/>
            <a:stretch/>
          </p:blipFill>
          <p:spPr>
            <a:xfrm>
              <a:off x="4419720" y="2724120"/>
              <a:ext cx="3504960" cy="129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" name="Group 18"/>
            <p:cNvGrpSpPr/>
            <p:nvPr/>
          </p:nvGrpSpPr>
          <p:grpSpPr>
            <a:xfrm>
              <a:off x="4514760" y="4010040"/>
              <a:ext cx="914400" cy="1058400"/>
              <a:chOff x="4514760" y="4010040"/>
              <a:chExt cx="914400" cy="1058400"/>
            </a:xfrm>
          </p:grpSpPr>
          <p:sp>
            <p:nvSpPr>
              <p:cNvPr id="99" name="Text Box 11"/>
              <p:cNvSpPr/>
              <p:nvPr/>
            </p:nvSpPr>
            <p:spPr>
              <a:xfrm>
                <a:off x="4514760" y="4425840"/>
                <a:ext cx="914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ome p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5"/>
              <p:cNvSpPr/>
              <p:nvPr/>
            </p:nvSpPr>
            <p:spPr>
              <a:xfrm flipV="1">
                <a:off x="4981320" y="4010040"/>
                <a:ext cx="0" cy="4572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21"/>
            <p:cNvGrpSpPr/>
            <p:nvPr/>
          </p:nvGrpSpPr>
          <p:grpSpPr>
            <a:xfrm>
              <a:off x="6140160" y="3993840"/>
              <a:ext cx="1251360" cy="530640"/>
              <a:chOff x="6140160" y="3993840"/>
              <a:chExt cx="1251360" cy="530640"/>
            </a:xfrm>
          </p:grpSpPr>
          <p:sp>
            <p:nvSpPr>
              <p:cNvPr id="102" name="Line 13"/>
              <p:cNvSpPr/>
              <p:nvPr/>
            </p:nvSpPr>
            <p:spPr>
              <a:xfrm flipV="1">
                <a:off x="6172200" y="3993840"/>
                <a:ext cx="0" cy="501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9"/>
              <p:cNvSpPr/>
              <p:nvPr/>
            </p:nvSpPr>
            <p:spPr>
              <a:xfrm flipV="1">
                <a:off x="7391520" y="4022640"/>
                <a:ext cx="0" cy="501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0"/>
              <p:cNvSpPr/>
              <p:nvPr/>
            </p:nvSpPr>
            <p:spPr>
              <a:xfrm flipH="1">
                <a:off x="6140160" y="4495680"/>
                <a:ext cx="12510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Folder Names and Filename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3771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erc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etters for all folder and filena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ders are represented by</a:t>
            </a:r>
            <a:r>
              <a:rPr b="0" lang="en-US" sz="3600" spc="-1" strike="noStrike">
                <a:solidFill>
                  <a:srgbClr val="f3140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3140f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UR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www.newsobserver.com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busi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343400" y="2666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File Management</a:t>
            </a:r>
            <a:br>
              <a:rPr sz="4000"/>
            </a:b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Hyperlinks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ve hyperlin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point to other files within the websi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ew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olute hyperlin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point to other websi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http://www.citizentimes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2:42:01Z</dcterms:created>
  <dc:creator>Lee O'Neal</dc:creator>
  <dc:description/>
  <dc:language>en-US</dc:language>
  <cp:lastModifiedBy>ycsadmin</cp:lastModifiedBy>
  <dcterms:modified xsi:type="dcterms:W3CDTF">2011-06-25T00:24:25Z</dcterms:modified>
  <cp:revision>36</cp:revision>
  <dc:subject/>
  <dc:title>Web Site Development  Competency 8 Create a multimedia web site.</dc:title>
</cp:coreProperties>
</file>